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A04-8CE7-4247-92D0-BCB7683C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2AE-EC19-47B6-B82A-B0FF4461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B9E-AF03-4792-A494-CFFE648D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0C0-185F-494C-9635-3126BBCC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70B7-4712-4947-8F99-4B22DED7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6624-F0D2-4176-A126-04200DB4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E11A-4F0F-433F-8999-4BBE08D5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3660-716D-4473-9D5B-EC4026E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6081-0D0A-43C3-996D-3FDA073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5D45-3AA4-45C0-AE9A-7660574D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18AB-9B33-4AA2-BEC1-B56ED901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F5D-522C-45F6-B89A-B84D197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5172-EAFE-4E50-A6FA-8C3D8E47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119E-EFA2-48D1-94D3-FE3236A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6EEE-1E1D-4751-8FF0-9CE5F163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519B-D83C-4948-A2FB-739D5BC9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F26-2071-4914-84A2-E47ABA9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E77-15B7-479C-9615-83AF4081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767-9D7D-43E8-A424-FCEC9A11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DE8-DC8D-4A33-9B44-65BDE86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BC6-5D51-4ED2-9836-4BB88C0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F0E-EEC0-4749-A842-03620E3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39F-CF7B-4B92-9C77-99AE786F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ECA-D842-4253-8342-1386E48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1DB-ECA4-4BB2-B986-410491367A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DC8-3FDB-4BB7-9BB0-E388C53625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45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¡Padres emprendedores, hijos emprendedores!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45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OYECTO PEDAGÓGICO PARA EL FOMENTO DE LA CULTURA EMPRENDEDORA INESAFISTA</a:t>
            </a: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7374" r="0" b="4898"/>
          <a:stretch/>
        </p:blipFill>
        <p:spPr>
          <a:xfrm>
            <a:off x="4500720" y="2351160"/>
            <a:ext cx="4352760" cy="25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3280" y="5105520"/>
            <a:ext cx="4500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INESAF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318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ínea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estudiantes de 10º y 11º durante el desarrollo de sus clases de informática recibirán capacitación en publicidad y diseño gráfico, y un pequeño grupo recibirá una formación adicional en ensamble y mantenimiento de computador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916360" cy="295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al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ínea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Los estudiantes de la jornada nocturna que se desempeñan en la construcción se formación en labores de acabad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al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43527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9695600">
            <a:off x="2359080" y="1746360"/>
            <a:ext cx="61372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6666"/>
                </a:solidFill>
                <a:latin typeface="Arial"/>
              </a:rPr>
              <a:t>INTEGR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FRANKLIN MURILLO THERÁN – RECT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JORGE MARIO VILLADIEGO PINE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JOSÉ GERMAN RAMOS ROME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ITALA VICTORIA PORTACIO VILLADIEG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PABLO JOSÈ ESTRADA OCHO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ALFA EDITH BETÍN GONZALE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ISAURA MENDIVIL PÉRE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RAMIRO ARMANDO CACUA CARDO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3366"/>
                </a:solidFill>
                <a:latin typeface="Arial"/>
              </a:rPr>
              <a:t>YAMILE NAZARETH DIAZ PERTUZ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 GEN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4000" y="35002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"/>
              </a:rPr>
              <a:t>Fomentar  la cultura emprendedora Inesafista mediante  la vinculación de los padres, niños y jóvenes a diferentes actividades productiva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R QUÉ NECESITAMOS FORMACIÓN EN EMPRENDIMIENTO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780000" y="2707920"/>
            <a:ext cx="518472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Desde la promulgación de la ley 1014 del 26 de 2006, las instituciones educativas a nivel nacional tienen la ingente tarea de fomentar la cultura del emprendimiento y el empresarismo desde sus aulas de cl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29577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GUNTA GENERADO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3182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¿Qué estrategias institucionales pueden implementarse para fomentar la cultura del emprendimiento en niños, jóvenes y padres de famili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59640" y="3114720"/>
            <a:ext cx="24843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27640" y="908640"/>
            <a:ext cx="5795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UESTRA PROPUESTA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 Líneas de acció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02680" y="1981800"/>
            <a:ext cx="6823800" cy="4751640"/>
            <a:chOff x="2002680" y="1981800"/>
            <a:chExt cx="6823800" cy="4751640"/>
          </a:xfrm>
        </p:grpSpPr>
        <p:sp>
          <p:nvSpPr>
            <p:cNvPr id="113" name="_s8242"/>
            <p:cNvSpPr/>
            <p:nvPr/>
          </p:nvSpPr>
          <p:spPr>
            <a:xfrm flipH="1" flipV="1">
              <a:off x="3722760" y="4145040"/>
              <a:ext cx="851400" cy="19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_s8234"/>
            <p:cNvSpPr/>
            <p:nvPr/>
          </p:nvSpPr>
          <p:spPr>
            <a:xfrm>
              <a:off x="2002680" y="3311280"/>
              <a:ext cx="1770120" cy="12787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3366"/>
                  </a:solidFill>
                  <a:latin typeface="Arial"/>
                </a:rPr>
                <a:t>Auxiliar en construcciones y labores en acabados (Ciclos IV y V)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_s8241"/>
            <p:cNvSpPr/>
            <p:nvPr/>
          </p:nvSpPr>
          <p:spPr>
            <a:xfrm flipH="1">
              <a:off x="4371480" y="5055480"/>
              <a:ext cx="52416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8230"/>
            <p:cNvSpPr/>
            <p:nvPr/>
          </p:nvSpPr>
          <p:spPr>
            <a:xfrm>
              <a:off x="2970720" y="5454360"/>
              <a:ext cx="1770120" cy="12790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66"/>
                  </a:solidFill>
                  <a:latin typeface="Arial"/>
                </a:rPr>
                <a:t>Ensamble y mantenimiento de computadores (10º y 11º )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8246"/>
            <p:cNvSpPr/>
            <p:nvPr/>
          </p:nvSpPr>
          <p:spPr>
            <a:xfrm>
              <a:off x="5930280" y="5055480"/>
              <a:ext cx="528120" cy="52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8245"/>
            <p:cNvSpPr/>
            <p:nvPr/>
          </p:nvSpPr>
          <p:spPr>
            <a:xfrm>
              <a:off x="6092280" y="5454360"/>
              <a:ext cx="1770120" cy="12790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66"/>
                  </a:solidFill>
                  <a:latin typeface="Arial"/>
                </a:rPr>
                <a:t>Elaboración artesanal de accesorios y artículos de cuero (8º y 9º)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8244"/>
            <p:cNvSpPr/>
            <p:nvPr/>
          </p:nvSpPr>
          <p:spPr>
            <a:xfrm flipV="1">
              <a:off x="6251040" y="4142160"/>
              <a:ext cx="851400" cy="20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_s8243"/>
            <p:cNvSpPr/>
            <p:nvPr/>
          </p:nvSpPr>
          <p:spPr>
            <a:xfrm>
              <a:off x="7056360" y="3308760"/>
              <a:ext cx="1770120" cy="12787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66"/>
                  </a:solidFill>
                  <a:latin typeface="Arial"/>
                </a:rPr>
                <a:t>Fabricación de desinfectantes y productos de aseo (6º y 7º)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8240"/>
            <p:cNvSpPr/>
            <p:nvPr/>
          </p:nvSpPr>
          <p:spPr>
            <a:xfrm flipV="1">
              <a:off x="5412960" y="3257280"/>
              <a:ext cx="0" cy="64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8228"/>
            <p:cNvSpPr/>
            <p:nvPr/>
          </p:nvSpPr>
          <p:spPr>
            <a:xfrm>
              <a:off x="4529520" y="1981800"/>
              <a:ext cx="1770120" cy="1278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66"/>
                  </a:solidFill>
                  <a:latin typeface="Arial"/>
                </a:rPr>
                <a:t>Elaboración de Traperos y escobas (grados 4º y 5º)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8226"/>
            <p:cNvSpPr/>
            <p:nvPr/>
          </p:nvSpPr>
          <p:spPr>
            <a:xfrm>
              <a:off x="4529520" y="3903840"/>
              <a:ext cx="1770120" cy="12787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rocesos productivo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al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ínea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 pequeño grupo de padres y niños de los grados 4º y 5º previamente escogidos por los maestros recibirán capacitación en la fabricación de traperos y escob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780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ínea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 grupo inicial de niños de 6º y 7º recibirán capacitación en la fabricación de productos de aseo del hoga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al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487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94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Línea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Un grupo de 8º y 9º recibirán talleres de elaboración artesanal de accesorios, tejidos, cuentas, y artículos de cuer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al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8512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0:54:25Z</dcterms:created>
  <dc:creator>RUBER ERNESTO BURGOS DIAZ</dc:creator>
  <dc:description/>
  <dc:language>en-US</dc:language>
  <cp:lastModifiedBy>RUBER ERNESTO BURGOS DIAZ</cp:lastModifiedBy>
  <dcterms:modified xsi:type="dcterms:W3CDTF">2013-04-10T02:21:34Z</dcterms:modified>
  <cp:revision>10</cp:revision>
  <dc:subject/>
  <dc:title>¡Padres emprendedores, hijos emprendedores!</dc:title>
</cp:coreProperties>
</file>